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3F4-8AF8-429D-9DF2-3328818C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FA4-7417-4AD2-984C-489774F2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B51-A7D5-4C8C-A193-A2764DE0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C63-85A3-4774-9514-FA3EB12A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199-5789-46E0-AA2E-538D91B2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4D0-CAFB-48C0-ADAA-2C703236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11E-5053-46D1-B9E0-75149A3D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CEE-2EA0-4C6B-99AB-6D71E746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7EE-76D4-4A6F-AAA0-3D50D399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2FC-3ED1-48A7-A1B4-214075EA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AFE-CC8D-4799-8B8E-BF4172D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A7E-E373-4920-A310-1E54C474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F400-FEBD-4FBC-8C14-4E58EB8DF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08880" y="101520"/>
            <a:ext cx="2413080" cy="234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2280" y="2693520"/>
            <a:ext cx="985536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WE’LL DO IN YEAR ON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opt and implement a </a:t>
            </a:r>
            <a:r>
              <a:rPr b="0" lang="en-US" sz="2600" spc="-1" strike="noStrike">
                <a:solidFill>
                  <a:srgbClr val="7878de"/>
                </a:solidFill>
                <a:latin typeface="Arial"/>
              </a:rPr>
              <a:t>mastery-based assess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 that is flexible and transparent enough for all the major constituents (students, parents, teachers, administration) to use effective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9520" y="82440"/>
            <a:ext cx="7015320" cy="253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4720680"/>
            <a:ext cx="9772560" cy="19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HY WE’LL DO THI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o create a more precise picture of student learning that recognizes students' different needs, specific strengths and weakne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o identify skills to target across the curriculum, including study skills, critical thinking, literacy and character/SEL compon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o give students more ownership over their edu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0160" y="4162320"/>
            <a:ext cx="2946240" cy="322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01160" y="-360"/>
            <a:ext cx="97506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WE’LL DO IN YEAR TWO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esign the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school schedul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be flexible enough to encompass the needs &amp; learning styles of different learners as well as to provide the common planning time staff will need to sustain these different approach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65320" y="3485160"/>
            <a:ext cx="68914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HY WE’LL DO THI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adjust our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chedul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best support students’ individual learning need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create a more precise picture of student learning with a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chedul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at allows for tailoring of education for individual/groups of stud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use our Year 1 successes as a launching pad for figuring out how to successfully structure a student's day based on his/her learning profi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